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CF6A-6888-4683-9173-0D7349DB9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D414-C95F-4CED-80F1-E0D8A5A70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5F23-9158-4E7D-BB1C-44278E22B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0B07-A34B-4D80-81CB-973319D86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EB4C-AF5F-45B3-BC5C-7578256D3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D45B-6CD9-4CA0-AFC1-164BB1AE7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E6D4-6660-4A49-BE93-633041EDE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1BDE-2F84-467F-BC1C-66BF42F95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BA5F-1D3E-49D2-93E8-49EE95E04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ED95-132D-4C5B-B567-81B4ADF89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3EB2-2843-4C7F-B7F5-297EC1B08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A83-A205-4EB1-8389-84860D91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198-BF06-447B-9FC6-9CB924C9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8BD-BAE4-428A-A36F-0E00DD38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83E-3AC1-49B7-B56A-43C35427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CBB-D4EC-466F-8E02-F40C2D0B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AB5-447F-4C38-AF59-EAC634F8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4B5-63D7-48F1-B533-0683872F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90C-917E-41F2-AE24-3E44927A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6AF-6C98-4F8A-91AB-831A80C9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64B-F13B-4437-9220-8DA46A73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B71-BEE6-411C-AB3D-0E0A21A2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1CC-B851-41C0-A770-215AE31D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7234-AD5B-42D1-A774-85CE841B9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2438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The Vietnam War</a:t>
            </a:r>
            <a:br>
              <a:rPr sz="44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art 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Increased U.S Involve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956-196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048120"/>
            <a:ext cx="7162560" cy="358128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John F. Kennedy’s stance on U.S. involvement in Vietn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Johnson Administration escalate American involvem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lf of Tonkin – August 2, 19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BJ announces that North Vietnamese torpedo boats fired on 2 American destro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s American aircraft to attack North Vietnamese ships and naval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not reveal that American ships were helping South Vietnam conduct spying and commando raids again North Vietn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57200" y="198360"/>
            <a:ext cx="8229600" cy="11732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hnson and Vietnam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963-196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) Johnson and Vietn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1523880"/>
            <a:ext cx="8724960" cy="5198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, War was never Decla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lf of Tonkin Resolution (196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ss g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wer of war to th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ke all necessary measures to repeal any armed attac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5:  LBJ sends 50,000 combat tr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peration Rolling Thun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omb N.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8:  500,000 US troops fighting with S. Vietnam tr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57200" y="228600"/>
            <a:ext cx="8229600" cy="11732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hnson and Vietnam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963-196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eelings towards involvement in Viet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dvisors worried that if we got too involved, it would be hard to get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LBJ’s advisors believed the duty of the US was to stop communism in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tability in Southeast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e US’s continuing power and prest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457200" y="228600"/>
            <a:ext cx="8229600" cy="11732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hnson and Vietnam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963-196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rfare in Viet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tcong = lacked firepower; used guerilla tactics, ambushes, and booby traps; blended into villages and disappe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= “search and destroy” mission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mb positions, destroy supply lines, force out into open for comb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roy landscape so Vietcong can’t hide in ju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pa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jellied gasoline that explodes on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Orange: chemical that strips leaves and turns farmland &amp; forest into waste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hnson and Vietnam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963-196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t O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1962 and 1971 the US sprayed nearly 20,000,000 gallons of Agent Orange (herbicide/defoliant) in Vietnam, eastern Laos, and parts of Cambo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aerial defoliation program known 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peration Ranch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vietnamartwork.files.wordpress.com/2011/05/boys.jpg"/>
          <p:cNvPicPr/>
          <p:nvPr/>
        </p:nvPicPr>
        <p:blipFill>
          <a:blip r:embed="rId1"/>
          <a:stretch/>
        </p:blipFill>
        <p:spPr>
          <a:xfrm>
            <a:off x="304920" y="304920"/>
            <a:ext cx="4538520" cy="358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www.knowngallery.com/uploads/Image/orange_052.jpg"/>
          <p:cNvPicPr/>
          <p:nvPr/>
        </p:nvPicPr>
        <p:blipFill>
          <a:blip r:embed="rId2"/>
          <a:stretch/>
        </p:blipFill>
        <p:spPr>
          <a:xfrm>
            <a:off x="3124080" y="3049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http://1.bp.blogspot.com/_29k8mzEqTBQ/R5aoIDjwYvI/AAAAAAAAARE/cgP7XUzXu7M/s320/Agent-Orange-Dioxin-Damage.jpg"/>
          <p:cNvPicPr/>
          <p:nvPr/>
        </p:nvPicPr>
        <p:blipFill>
          <a:blip r:embed="rId3"/>
          <a:stretch/>
        </p:blipFill>
        <p:spPr>
          <a:xfrm>
            <a:off x="380880" y="3048120"/>
            <a:ext cx="4114800" cy="341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http://www.asia.youth-leader.org/wp-content/uploads/2011/10/ao2.jpg"/>
          <p:cNvPicPr/>
          <p:nvPr/>
        </p:nvPicPr>
        <p:blipFill>
          <a:blip r:embed="rId4"/>
          <a:stretch/>
        </p:blipFill>
        <p:spPr>
          <a:xfrm>
            <a:off x="3505320" y="2895480"/>
            <a:ext cx="5371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FK and Vietnam (1960-196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28600" y="990720"/>
            <a:ext cx="8724960" cy="563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tnam was divided @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rth = Ho Chi Minh (commun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uth= Ngo Dinh Diem (pro-W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go Dinh Di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6= refused a nationwide election…feared that it would be “fix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 Chi Minh and Vietco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ngry, start to arm themsel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VIL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nned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sends 15,000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litary adviso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train South Vietnamese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FK and Vietnam (1960-196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990720"/>
            <a:ext cx="872496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nedy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ategic Haml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troops armed villages where peasants were 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3249720" cy="4495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3189240" cy="426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j0222019"/>
          <p:cNvPicPr/>
          <p:nvPr/>
        </p:nvPicPr>
        <p:blipFill>
          <a:blip r:embed="rId3"/>
          <a:stretch/>
        </p:blipFill>
        <p:spPr>
          <a:xfrm>
            <a:off x="8153280" y="5791320"/>
            <a:ext cx="814680" cy="81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46727" t="15383" r="20003" b="38566"/>
          <a:stretch/>
        </p:blipFill>
        <p:spPr>
          <a:xfrm>
            <a:off x="457200" y="3352680"/>
            <a:ext cx="3029040" cy="32702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8" name="Picture 3" descr=""/>
          <p:cNvPicPr/>
          <p:nvPr/>
        </p:nvPicPr>
        <p:blipFill>
          <a:blip r:embed="rId2"/>
          <a:srcRect l="0" t="0" r="0" b="7220"/>
          <a:stretch/>
        </p:blipFill>
        <p:spPr>
          <a:xfrm>
            <a:off x="685800" y="152280"/>
            <a:ext cx="2614680" cy="2968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9" name="Picture 4" descr=""/>
          <p:cNvPicPr/>
          <p:nvPr/>
        </p:nvPicPr>
        <p:blipFill>
          <a:blip r:embed="rId3">
            <a:lum bright="-8000"/>
          </a:blip>
          <a:srcRect l="26290" t="0" r="3884" b="52608"/>
          <a:stretch/>
        </p:blipFill>
        <p:spPr>
          <a:xfrm>
            <a:off x="3809880" y="304920"/>
            <a:ext cx="2819520" cy="2673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0" name="Picture 5" descr=""/>
          <p:cNvPicPr/>
          <p:nvPr/>
        </p:nvPicPr>
        <p:blipFill>
          <a:blip r:embed="rId4">
            <a:lum bright="-8000"/>
          </a:blip>
          <a:srcRect l="22481" t="44532" r="7618" b="0"/>
          <a:stretch/>
        </p:blipFill>
        <p:spPr>
          <a:xfrm>
            <a:off x="3809880" y="3429000"/>
            <a:ext cx="2822760" cy="3127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6967800" y="380880"/>
            <a:ext cx="189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Ho Ch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Min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660360" y="3886200"/>
            <a:ext cx="257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Ngo Din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Di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5"/>
          <a:stretch/>
        </p:blipFill>
        <p:spPr>
          <a:xfrm>
            <a:off x="7162920" y="1676520"/>
            <a:ext cx="1447560" cy="96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6"/>
          <a:stretch/>
        </p:blipFill>
        <p:spPr>
          <a:xfrm>
            <a:off x="7162920" y="53341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10"/>
          <p:cNvSpPr txBox="1"/>
          <p:nvPr/>
        </p:nvSpPr>
        <p:spPr>
          <a:xfrm>
            <a:off x="1219320" y="2514600"/>
            <a:ext cx="6629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Whose team are we o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FK and Vietnam (1960-196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28600" y="990720"/>
            <a:ext cx="872496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go Dinh Diem = not a popular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3 = He’s Catholic, he outlaws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858000" cy="4461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j0222019"/>
          <p:cNvPicPr/>
          <p:nvPr/>
        </p:nvPicPr>
        <p:blipFill>
          <a:blip r:embed="rId2"/>
          <a:stretch/>
        </p:blipFill>
        <p:spPr>
          <a:xfrm>
            <a:off x="0" y="2133720"/>
            <a:ext cx="828720" cy="831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j0222019"/>
          <p:cNvPicPr/>
          <p:nvPr/>
        </p:nvPicPr>
        <p:blipFill>
          <a:blip r:embed="rId3"/>
          <a:stretch/>
        </p:blipFill>
        <p:spPr>
          <a:xfrm>
            <a:off x="8329680" y="6040440"/>
            <a:ext cx="814320" cy="81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FK and Vietnam (1960-196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295280"/>
            <a:ext cx="8724960" cy="472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v. 1, 19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A aids in the assassination of Di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s launched a military coup and seize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v. 22, 19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FK is assassinat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534160" cy="3352680"/>
          </a:xfrm>
          <a:prstGeom prst="rect">
            <a:avLst/>
          </a:prstGeom>
          <a:solidFill>
            <a:srgbClr val="bbe0e3">
              <a:alpha val="70000"/>
            </a:srgbClr>
          </a:solidFill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ohnson and Vietnam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ll part 2…we’re still getting more and more involved in the Vietnam conflic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990720"/>
            <a:ext cx="9144000" cy="510516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 we go to Vietnam to contain Communism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uman Doctr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947)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tainment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elieve that it must be the policy of the United States to support free peoples who are resisting attempted subjugation by armed minorities or by outside pressur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219320" y="228600"/>
            <a:ext cx="69339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ggest Decision for Joh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732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hnson and Vietnam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963-196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28600" y="1600200"/>
            <a:ext cx="8724960" cy="498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63:  Lyndon B. Johnson =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BJ has to dec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we go to Vietnam? Or Withdraw Troo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ohnson decides to go to war = afraid it would look like U.S. gave up, “soft on communis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64 Re-Election Year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U.S. Ship is attacked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ulf of Tonk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truth?  Propaganda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1:03:00Z</dcterms:created>
  <dc:creator>IT Department</dc:creator>
  <dc:description/>
  <dc:language>en-US</dc:language>
  <cp:lastModifiedBy>Administrator</cp:lastModifiedBy>
  <dcterms:modified xsi:type="dcterms:W3CDTF">2013-04-05T15:14:25Z</dcterms:modified>
  <cp:revision>94</cp:revision>
  <dc:subject/>
  <dc:title>Brainstorm</dc:title>
</cp:coreProperties>
</file>